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E497-0638-4996-A662-B1A1FC7DC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E920-65A1-4666-B15E-DB157A16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420C-60E8-4E69-B02B-E2B7C08AC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D9D7-4E92-4C34-9F82-E35210C16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261C-223C-49FC-8A44-6A98A43B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5AE5-A0D6-4EC5-A56E-9AC39CCB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81E3-97E3-4596-A983-DE748CE9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A98E-0AFA-4618-A8BB-7DB96BD1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6EDD-C47F-45C3-A009-DD6AD976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1C56-B285-4748-BCFF-AD9070AF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9FB5-C42F-4DF1-B20C-5FF594BE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F69E-8314-49FB-97A8-D5C48D70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24AC-38F2-4F8C-AE29-8875F62CB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4876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magnifying glass to scan for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light the device, right click on it, then select “apply template from file”.  Select file called “FT4232H_custom_tsw1400.x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172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“USB String Descriptors”. Check then Uncheck Auto Generate Serial 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324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ew serial number will now be present. Click on lightning bolt to the right of the magnifying glass to start programming 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5334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“Program” to program dev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 programming window. Click on magnifying glass to verify that the part was programmed with the new serial numb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5867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doing a second board, just click on magnifying glass and uncheck “Auto Generate Serial No.” then program dev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410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3:28:10Z</dcterms:created>
  <dc:creator>a0181823</dc:creator>
  <dc:description/>
  <dc:language>en-US</dc:language>
  <cp:lastModifiedBy>a0181823</cp:lastModifiedBy>
  <dcterms:modified xsi:type="dcterms:W3CDTF">2011-10-18T12:50:19Z</dcterms:modified>
  <cp:revision>21</cp:revision>
  <dc:subject/>
  <dc:title>Slide 1</dc:title>
</cp:coreProperties>
</file>